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drumroll.wav" ContentType="audio/x-wav"/>
  <Override PartName="/ppt/media/camera.wav" ContentType="audio/x-wav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BC02-88B1-49A2-BA90-5BB45BA4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D8D-8616-43C8-A469-4A99FC06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2C8-CECB-4D5A-AF01-534A6389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D393-50FB-42C6-8F7C-8B40B663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4F4-01E8-4023-8951-3AAFD41C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0B1E-77BF-4B3B-9BAE-39663C2F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FCB-1540-476F-8C9C-AAFA63AA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1D4-BCC6-4BAC-BCF5-278D8E82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1282-D106-43E5-9EB9-A22E9118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351-49BC-45F5-9746-EA57727D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8E9-1C70-49DF-A7FD-318C7146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BE9-9C78-4B5B-847C-AC330D2B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3BD5-54D3-4C8A-95C7-6BEDE210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s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600720" cy="2586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3024000" cy="270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Arial"/>
              </a:rPr>
              <a:t>Colla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11280" y="357336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1973520" cy="17636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zra Jack K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95640" y="2060640"/>
            <a:ext cx="266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Auth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429000"/>
            <a:ext cx="37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ff"/>
                </a:solidFill>
                <a:latin typeface="Arial"/>
              </a:rPr>
              <a:t>Illustrat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924360" y="436572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96000" y="4437000"/>
            <a:ext cx="1973160" cy="1763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28800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 Famous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600360" cy="322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ed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8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Boo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387520" cy="214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48000" y="1628640"/>
            <a:ext cx="2449440" cy="2192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64000" y="4076640"/>
            <a:ext cx="2170080" cy="209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12000" y="2852640"/>
            <a:ext cx="2674800" cy="2194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cc00ff"/>
                </a:solidFill>
                <a:uFillTx/>
                <a:latin typeface="Arial"/>
              </a:rPr>
              <a:t>Kea</a:t>
            </a:r>
            <a:r>
              <a:rPr b="0" lang="en-US" sz="6000" spc="-1" strike="noStrike">
                <a:solidFill>
                  <a:srgbClr val="cc00ff"/>
                </a:solidFill>
                <a:latin typeface="Arial"/>
              </a:rPr>
              <a:t>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2133720"/>
            <a:ext cx="1297080" cy="2803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Arial"/>
              </a:rPr>
              <a:t>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ats Web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3141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zra-jack-keats.org/home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4:19:20Z</dcterms:created>
  <dc:creator>Educational Technology</dc:creator>
  <dc:description/>
  <dc:language>en-US</dc:language>
  <cp:lastModifiedBy>Educational Technology</cp:lastModifiedBy>
  <dcterms:modified xsi:type="dcterms:W3CDTF">2008-01-23T16:33:06Z</dcterms:modified>
  <cp:revision>7</cp:revision>
  <dc:subject/>
  <dc:title>What is the same?</dc:title>
</cp:coreProperties>
</file>